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2866-C718-4EEE-B514-FBCF08A0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9DD8-DF6D-4703-9C19-F5D44403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3009-65BA-41A9-B002-94414951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86A7-4CA5-4D6E-B822-177D8590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2A3B-8549-4330-8D13-91173819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431C-D9F4-4260-B750-AFA155AB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7A64-F087-412E-9472-CB4CC37B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2400-1BE2-4F33-9247-6B1D19E2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30AB-63F3-4738-ABCB-6325E32D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6641-E11A-41B1-9BA0-062B0B7C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74D9-D771-460D-9793-7F744568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AB42-9D52-48F5-A5D7-51C1E2F8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27A9-9332-496A-B89A-E95B2F9E8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-42840" y="-23760"/>
            <a:ext cx="9205920" cy="69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1"/>
          <p:cNvSpPr/>
          <p:nvPr/>
        </p:nvSpPr>
        <p:spPr>
          <a:xfrm>
            <a:off x="1219320" y="1066680"/>
            <a:ext cx="73800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1749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ngle-phase induction 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One stator wi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ingle-phase power supp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quirrel cage ro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Require device to start mo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3 to 4 HP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Household appliances: fans, washing machines, dryers, mixers , wet grinders 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2"/>
          <p:cNvSpPr/>
          <p:nvPr/>
        </p:nvSpPr>
        <p:spPr>
          <a:xfrm>
            <a:off x="1447920" y="1066680"/>
            <a:ext cx="687528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1749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ree-phase induction 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Three-phase supply produces magnetic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quirrel cage or wound ro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elf-star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High power capab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1/3 to hundreds HP applications: pumps, compressors, conveyor belts, grin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6064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70% of motors in industry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0"/>
          <p:cNvSpPr/>
          <p:nvPr/>
        </p:nvSpPr>
        <p:spPr>
          <a:xfrm>
            <a:off x="1066680" y="2133720"/>
            <a:ext cx="6985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alance single phase loads equally among three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gregate single phase loads and feed them into separate line/transfor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1295280" y="1096920"/>
            <a:ext cx="70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Improve Power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"/>
          <p:cNvSpPr/>
          <p:nvPr/>
        </p:nvSpPr>
        <p:spPr>
          <a:xfrm>
            <a:off x="609480" y="228600"/>
            <a:ext cx="8245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xed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otor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tator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riction and rew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tray load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"/>
          <p:cNvPicPr/>
          <p:nvPr/>
        </p:nvPicPr>
        <p:blipFill>
          <a:blip r:embed="rId1"/>
          <a:stretch/>
        </p:blipFill>
        <p:spPr>
          <a:xfrm>
            <a:off x="4038480" y="2133720"/>
            <a:ext cx="4496040" cy="1981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7" name="TextBox 5"/>
          <p:cNvSpPr/>
          <p:nvPr/>
        </p:nvSpPr>
        <p:spPr>
          <a:xfrm>
            <a:off x="1481040" y="762120"/>
            <a:ext cx="614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Arial"/>
              </a:rPr>
              <a:t>Losses in induction mo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0"/>
          <p:cNvSpPr/>
          <p:nvPr/>
        </p:nvSpPr>
        <p:spPr>
          <a:xfrm>
            <a:off x="609480" y="762120"/>
            <a:ext cx="8077320" cy="47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25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actors that influence effici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w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0"/>
          <p:cNvSpPr/>
          <p:nvPr/>
        </p:nvSpPr>
        <p:spPr>
          <a:xfrm>
            <a:off x="380880" y="380880"/>
            <a:ext cx="6121440" cy="24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otor part load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esigned for 50-100% l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ost efficient at 75% l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Rapid drop below 50% l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5" descr=""/>
          <p:cNvPicPr/>
          <p:nvPr/>
        </p:nvPicPr>
        <p:blipFill>
          <a:blip r:embed="rId1"/>
          <a:srcRect l="0" t="0" r="0" b="27917"/>
          <a:stretch/>
        </p:blipFill>
        <p:spPr>
          <a:xfrm>
            <a:off x="3048120" y="2743200"/>
            <a:ext cx="5181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0"/>
          <p:cNvSpPr/>
          <p:nvPr/>
        </p:nvSpPr>
        <p:spPr>
          <a:xfrm>
            <a:off x="1219320" y="1600200"/>
            <a:ext cx="6984720" cy="30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5712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35712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Inspect motors regularly for wear, dirt/d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35712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Checking motor loads for over/under loa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35712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Lubricate appropr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35712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Check alignment of motor and equi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784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35712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Provide proper venti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295280" y="1066680"/>
            <a:ext cx="70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3"/>
          <p:cNvSpPr/>
          <p:nvPr/>
        </p:nvSpPr>
        <p:spPr>
          <a:xfrm>
            <a:off x="1295280" y="9144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Speed Control of Induction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600200" y="1981080"/>
            <a:ext cx="723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69048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Variable speed drives (VS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69048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n be installed in exis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69048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ulti-speed mo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69048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600200" y="3962520"/>
            <a:ext cx="7236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69048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ound rotor motor dr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69048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Variable resistors to control torqu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1828800" y="426600"/>
            <a:ext cx="70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1371600" y="1447920"/>
            <a:ext cx="7451640" cy="28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lectromechanical device that converts electrical energy to mechanical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echanical energy used to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1652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Rotate pump impeller, fan, bl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1652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Drive compress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1652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Lift mater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1"/>
          <p:cNvSpPr/>
          <p:nvPr/>
        </p:nvSpPr>
        <p:spPr>
          <a:xfrm>
            <a:off x="838080" y="304920"/>
            <a:ext cx="70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How Does an Electric Motor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1" descr="D:\USER\GARNAIK\How a motor works_files\mothow.gif"/>
          <p:cNvPicPr/>
          <p:nvPr/>
        </p:nvPicPr>
        <p:blipFill>
          <a:blip r:embed="rId1"/>
          <a:stretch/>
        </p:blipFill>
        <p:spPr>
          <a:xfrm>
            <a:off x="914400" y="1246320"/>
            <a:ext cx="6753240" cy="5441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3"/>
          <p:cNvSpPr/>
          <p:nvPr/>
        </p:nvSpPr>
        <p:spPr>
          <a:xfrm>
            <a:off x="1752480" y="380880"/>
            <a:ext cx="70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Classification of Mo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5"/>
          <p:cNvGrpSpPr/>
          <p:nvPr/>
        </p:nvGrpSpPr>
        <p:grpSpPr>
          <a:xfrm>
            <a:off x="870120" y="1600200"/>
            <a:ext cx="7435800" cy="4495680"/>
            <a:chOff x="870120" y="1600200"/>
            <a:chExt cx="7435800" cy="4495680"/>
          </a:xfrm>
        </p:grpSpPr>
        <p:sp>
          <p:nvSpPr>
            <p:cNvPr id="48" name="AutoShape 86"/>
            <p:cNvSpPr/>
            <p:nvPr/>
          </p:nvSpPr>
          <p:spPr>
            <a:xfrm>
              <a:off x="870120" y="1600200"/>
              <a:ext cx="7435800" cy="44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87"/>
            <p:cNvSpPr/>
            <p:nvPr/>
          </p:nvSpPr>
          <p:spPr>
            <a:xfrm>
              <a:off x="3478680" y="1600200"/>
              <a:ext cx="2543760" cy="614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lectric Motor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88"/>
            <p:cNvSpPr/>
            <p:nvPr/>
          </p:nvSpPr>
          <p:spPr>
            <a:xfrm>
              <a:off x="1325880" y="2773440"/>
              <a:ext cx="2543760" cy="968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lternating Current (AC) Moto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9"/>
            <p:cNvSpPr/>
            <p:nvPr/>
          </p:nvSpPr>
          <p:spPr>
            <a:xfrm>
              <a:off x="5566320" y="2773440"/>
              <a:ext cx="2283480" cy="968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irect Current (DC) Moto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90"/>
            <p:cNvSpPr/>
            <p:nvPr/>
          </p:nvSpPr>
          <p:spPr>
            <a:xfrm>
              <a:off x="870120" y="4280760"/>
              <a:ext cx="1566000" cy="473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ynchrono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91"/>
            <p:cNvSpPr/>
            <p:nvPr/>
          </p:nvSpPr>
          <p:spPr>
            <a:xfrm>
              <a:off x="2760840" y="4280760"/>
              <a:ext cx="1370160" cy="473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92"/>
            <p:cNvSpPr/>
            <p:nvPr/>
          </p:nvSpPr>
          <p:spPr>
            <a:xfrm>
              <a:off x="2542320" y="5622480"/>
              <a:ext cx="1589040" cy="473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ree-Ph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93"/>
            <p:cNvSpPr/>
            <p:nvPr/>
          </p:nvSpPr>
          <p:spPr>
            <a:xfrm>
              <a:off x="870120" y="5622480"/>
              <a:ext cx="1576800" cy="473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ingle-Ph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94"/>
            <p:cNvSpPr/>
            <p:nvPr/>
          </p:nvSpPr>
          <p:spPr>
            <a:xfrm>
              <a:off x="6935760" y="4280760"/>
              <a:ext cx="1370160" cy="827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elf Exci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95"/>
            <p:cNvSpPr/>
            <p:nvPr/>
          </p:nvSpPr>
          <p:spPr>
            <a:xfrm>
              <a:off x="4653360" y="4280760"/>
              <a:ext cx="1370160" cy="827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eparately Exci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96"/>
            <p:cNvSpPr/>
            <p:nvPr/>
          </p:nvSpPr>
          <p:spPr>
            <a:xfrm>
              <a:off x="4653360" y="5622480"/>
              <a:ext cx="979200" cy="473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e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97"/>
            <p:cNvSpPr/>
            <p:nvPr/>
          </p:nvSpPr>
          <p:spPr>
            <a:xfrm>
              <a:off x="7326720" y="5622480"/>
              <a:ext cx="979200" cy="473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hu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" name="AutoShape 98"/>
            <p:cNvCxnSpPr>
              <a:stCxn id="49" idx="2"/>
              <a:endCxn id="50" idx="0"/>
            </p:cNvCxnSpPr>
            <p:nvPr/>
          </p:nvCxnSpPr>
          <p:spPr>
            <a:xfrm rot="5400000">
              <a:off x="3394800" y="1417680"/>
              <a:ext cx="559080" cy="2153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" name="AutoShape 99"/>
            <p:cNvCxnSpPr>
              <a:stCxn id="49" idx="2"/>
              <a:endCxn id="51" idx="0"/>
            </p:cNvCxnSpPr>
            <p:nvPr/>
          </p:nvCxnSpPr>
          <p:spPr>
            <a:xfrm flipH="1" rot="16200000">
              <a:off x="5450400" y="1515240"/>
              <a:ext cx="559080" cy="1957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AutoShape 100"/>
            <p:cNvCxnSpPr>
              <a:stCxn id="50" idx="2"/>
              <a:endCxn id="52" idx="0"/>
            </p:cNvCxnSpPr>
            <p:nvPr/>
          </p:nvCxnSpPr>
          <p:spPr>
            <a:xfrm rot="5400000">
              <a:off x="1856160" y="3538440"/>
              <a:ext cx="539280" cy="94536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AutoShape 101"/>
            <p:cNvCxnSpPr>
              <a:stCxn id="50" idx="2"/>
              <a:endCxn id="53" idx="0"/>
            </p:cNvCxnSpPr>
            <p:nvPr/>
          </p:nvCxnSpPr>
          <p:spPr>
            <a:xfrm flipH="1" rot="16200000">
              <a:off x="2752560" y="3586320"/>
              <a:ext cx="539280" cy="84924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AutoShape 102"/>
            <p:cNvCxnSpPr>
              <a:stCxn id="53" idx="2"/>
              <a:endCxn id="54" idx="0"/>
            </p:cNvCxnSpPr>
            <p:nvPr/>
          </p:nvCxnSpPr>
          <p:spPr>
            <a:xfrm rot="5400000">
              <a:off x="2957400" y="5133600"/>
              <a:ext cx="867960" cy="110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AutoShape 103"/>
            <p:cNvCxnSpPr>
              <a:stCxn id="53" idx="2"/>
              <a:endCxn id="55" idx="0"/>
            </p:cNvCxnSpPr>
            <p:nvPr/>
          </p:nvCxnSpPr>
          <p:spPr>
            <a:xfrm rot="5400000">
              <a:off x="2117880" y="4294080"/>
              <a:ext cx="867960" cy="17895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" name="AutoShape 104"/>
            <p:cNvCxnSpPr>
              <a:stCxn id="51" idx="2"/>
              <a:endCxn id="57" idx="0"/>
            </p:cNvCxnSpPr>
            <p:nvPr/>
          </p:nvCxnSpPr>
          <p:spPr>
            <a:xfrm rot="5400000">
              <a:off x="5753880" y="3326400"/>
              <a:ext cx="539280" cy="136944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" name="AutoShape 105"/>
            <p:cNvCxnSpPr>
              <a:stCxn id="51" idx="2"/>
              <a:endCxn id="56" idx="0"/>
            </p:cNvCxnSpPr>
            <p:nvPr/>
          </p:nvCxnSpPr>
          <p:spPr>
            <a:xfrm flipH="1" rot="16200000">
              <a:off x="6895440" y="3553920"/>
              <a:ext cx="539280" cy="91368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AutoShape 106"/>
            <p:cNvCxnSpPr>
              <a:stCxn id="56" idx="2"/>
              <a:endCxn id="58" idx="0"/>
            </p:cNvCxnSpPr>
            <p:nvPr/>
          </p:nvCxnSpPr>
          <p:spPr>
            <a:xfrm rot="5400000">
              <a:off x="6125400" y="4126680"/>
              <a:ext cx="514080" cy="2478240"/>
            </a:xfrm>
            <a:prstGeom prst="bentConnector3">
              <a:avLst>
                <a:gd name="adj1" fmla="val 499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AutoShape 107"/>
            <p:cNvCxnSpPr>
              <a:stCxn id="56" idx="2"/>
              <a:endCxn id="59" idx="0"/>
            </p:cNvCxnSpPr>
            <p:nvPr/>
          </p:nvCxnSpPr>
          <p:spPr>
            <a:xfrm flipH="1" rot="16200000">
              <a:off x="7461720" y="5267520"/>
              <a:ext cx="514080" cy="196200"/>
            </a:xfrm>
            <a:prstGeom prst="bentConnector3">
              <a:avLst>
                <a:gd name="adj1" fmla="val 499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Text Box 108"/>
            <p:cNvSpPr/>
            <p:nvPr/>
          </p:nvSpPr>
          <p:spPr>
            <a:xfrm>
              <a:off x="5828400" y="5622480"/>
              <a:ext cx="1347840" cy="473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mpou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AutoShape 109"/>
            <p:cNvCxnSpPr>
              <a:stCxn id="56" idx="2"/>
              <a:endCxn id="70" idx="0"/>
            </p:cNvCxnSpPr>
            <p:nvPr/>
          </p:nvCxnSpPr>
          <p:spPr>
            <a:xfrm rot="5400000">
              <a:off x="6803640" y="4806000"/>
              <a:ext cx="515160" cy="1118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0"/>
          <p:cNvSpPr/>
          <p:nvPr/>
        </p:nvSpPr>
        <p:spPr>
          <a:xfrm>
            <a:off x="1143000" y="1752480"/>
            <a:ext cx="752472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eld p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714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North pole and south p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714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Receive electricity to form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magnetic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rm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714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Cylinder between the p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714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Electromagnet when current goes through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714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Linked to drive shaft to drive the l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u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2714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Overturns current direction in arm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143000" y="685800"/>
            <a:ext cx="70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DC Motors –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0"/>
          <p:cNvSpPr/>
          <p:nvPr/>
        </p:nvSpPr>
        <p:spPr>
          <a:xfrm>
            <a:off x="1295280" y="1600200"/>
            <a:ext cx="74520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nstant speed fixed by system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C for excitation and low starting torque: suited for low load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n improve power factor: suited for high electricity us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4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ynchronous speed (N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1447920" y="762120"/>
            <a:ext cx="70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AC Motors – Synchronous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1981080" y="5638680"/>
            <a:ext cx="251964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Ns = 120 f /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4952880" y="56386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 = supply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 = number of 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0"/>
          <p:cNvSpPr/>
          <p:nvPr/>
        </p:nvSpPr>
        <p:spPr>
          <a:xfrm>
            <a:off x="1908000" y="2367000"/>
            <a:ext cx="6985080" cy="37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ost common motors in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vantag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35712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impl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35712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Inexpens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35712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High power to weight ra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35712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Easy to main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35712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  <a:tab algn="l" pos="522144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Direct connection to AC power sou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1903320" y="1484280"/>
            <a:ext cx="70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AC Motors – Induction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6"/>
          <p:cNvSpPr/>
          <p:nvPr/>
        </p:nvSpPr>
        <p:spPr>
          <a:xfrm>
            <a:off x="1066680" y="1600200"/>
            <a:ext cx="597708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spcBef>
                <a:spcPts val="1749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6020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quirrel cage: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conducting bars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in parallel sl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6020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Wound rotor: 3-phase, double-layer, distributed wi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9"/>
          <p:cNvSpPr/>
          <p:nvPr/>
        </p:nvSpPr>
        <p:spPr>
          <a:xfrm>
            <a:off x="762120" y="685800"/>
            <a:ext cx="70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AC Motors – Induction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0" descr="abbf2"/>
          <p:cNvPicPr/>
          <p:nvPr/>
        </p:nvPicPr>
        <p:blipFill>
          <a:blip r:embed="rId1"/>
          <a:stretch/>
        </p:blipFill>
        <p:spPr>
          <a:xfrm>
            <a:off x="4419720" y="1725480"/>
            <a:ext cx="4592520" cy="22370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1"/>
          <p:cNvSpPr/>
          <p:nvPr/>
        </p:nvSpPr>
        <p:spPr>
          <a:xfrm>
            <a:off x="1219320" y="5105520"/>
            <a:ext cx="723564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60200">
              <a:lnSpc>
                <a:spcPct val="100000"/>
              </a:lnSpc>
              <a:spcBef>
                <a:spcPts val="825"/>
              </a:spcBef>
              <a:buClr>
                <a:srgbClr val="000066"/>
              </a:buClr>
              <a:buFont typeface="Arial"/>
              <a:buChar char="•"/>
              <a:tabLst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Stampings with slots to carry 3-phase wind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60200">
              <a:lnSpc>
                <a:spcPct val="100000"/>
              </a:lnSpc>
              <a:spcBef>
                <a:spcPts val="825"/>
              </a:spcBef>
              <a:buClr>
                <a:srgbClr val="000066"/>
              </a:buClr>
              <a:buFont typeface="Arial"/>
              <a:buChar char="•"/>
              <a:tabLst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  <a:tab algn="l" pos="499428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Wound for definite number of p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2"/>
          <p:cNvSpPr/>
          <p:nvPr/>
        </p:nvSpPr>
        <p:spPr>
          <a:xfrm>
            <a:off x="1066680" y="685800"/>
            <a:ext cx="7056720" cy="28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2001"/>
              </a:spcBef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ow induction motor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Electricity supplied to st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agnetic field generated that moves around ro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urrent induced in ro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3"/>
          <p:cNvGrpSpPr/>
          <p:nvPr/>
        </p:nvGrpSpPr>
        <p:grpSpPr>
          <a:xfrm>
            <a:off x="5029200" y="2743200"/>
            <a:ext cx="3962160" cy="3885840"/>
            <a:chOff x="5029200" y="2743200"/>
            <a:chExt cx="3962160" cy="3885840"/>
          </a:xfrm>
        </p:grpSpPr>
        <p:pic>
          <p:nvPicPr>
            <p:cNvPr id="86" name="Picture 14" descr="D:\USER\GARNAIK\Reliance Electric - Basic Motor Theory_files\mtfig8.gif"/>
            <p:cNvPicPr/>
            <p:nvPr/>
          </p:nvPicPr>
          <p:blipFill>
            <a:blip r:embed="rId1"/>
            <a:stretch/>
          </p:blipFill>
          <p:spPr>
            <a:xfrm>
              <a:off x="5029200" y="2743200"/>
              <a:ext cx="3962160" cy="388584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87" name="Text Box 15"/>
            <p:cNvSpPr/>
            <p:nvPr/>
          </p:nvSpPr>
          <p:spPr>
            <a:xfrm>
              <a:off x="6437520" y="2765520"/>
              <a:ext cx="16423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lectromagneti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6"/>
            <p:cNvSpPr/>
            <p:nvPr/>
          </p:nvSpPr>
          <p:spPr>
            <a:xfrm>
              <a:off x="6431400" y="6191640"/>
              <a:ext cx="9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000" spc="-1" strike="noStrike">
                  <a:solidFill>
                    <a:srgbClr val="000000"/>
                  </a:solidFill>
                  <a:latin typeface="Arial"/>
                </a:rPr>
                <a:t>Sta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7"/>
            <p:cNvSpPr/>
            <p:nvPr/>
          </p:nvSpPr>
          <p:spPr>
            <a:xfrm>
              <a:off x="7530480" y="5728320"/>
              <a:ext cx="8168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000" spc="-1" strike="noStrike">
                  <a:solidFill>
                    <a:srgbClr val="000000"/>
                  </a:solidFill>
                  <a:latin typeface="Arial"/>
                </a:rPr>
                <a:t>Ro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18"/>
          <p:cNvSpPr/>
          <p:nvPr/>
        </p:nvSpPr>
        <p:spPr>
          <a:xfrm>
            <a:off x="990720" y="3733920"/>
            <a:ext cx="3887640" cy="19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1375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Rotor produces second magnetic field that opposes stator magnetic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Rotor begins to ro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4:20:03Z</dcterms:created>
  <dc:creator/>
  <dc:description>Electrical Projects</dc:description>
  <dc:language>en-US</dc:language>
  <cp:lastModifiedBy>Brigade</cp:lastModifiedBy>
  <dcterms:modified xsi:type="dcterms:W3CDTF">2011-08-24T09:12:24Z</dcterms:modified>
  <cp:revision>0</cp:revision>
  <dc:subject>Electrical Projects</dc:subject>
  <dc:title>EEE IEEE Projects</dc:title>
</cp:coreProperties>
</file>